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5.png" ContentType="image/png"/>
  <Override PartName="/ppt/media/image2.gif" ContentType="image/gif"/>
  <Override PartName="/ppt/media/image22.png" ContentType="image/png"/>
  <Override PartName="/ppt/media/image11.png" ContentType="image/png"/>
  <Override PartName="/ppt/media/image23.png" ContentType="image/png"/>
  <Override PartName="/ppt/media/image20.gif" ContentType="image/gif"/>
  <Override PartName="/ppt/media/image18.png" ContentType="image/png"/>
  <Override PartName="/ppt/media/image21.png" ContentType="image/png"/>
  <Override PartName="/ppt/media/image16.gif" ContentType="image/gif"/>
  <Override PartName="/ppt/media/image14.gif" ContentType="image/gif"/>
  <Override PartName="/ppt/media/image17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B7B-291A-4E2B-9910-B1D3CB2D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1B8-1B24-4230-B11C-0940F92B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C03-B795-48A9-97A0-24227F5A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94E-7A7A-4D52-8275-416E3C83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D94-B821-41E2-B85C-5D75C803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148-3A72-4A7C-9745-9D28020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CE6-F349-4372-8556-86EF88D0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A1B-FD7A-46DB-BA97-7EA842C8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B66-AFA2-48FE-94A9-71196F0D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999-8FB1-4020-8276-DB9A026B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A9B-2916-4CB5-88C9-3D0EFD3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809-2B1A-499C-AA07-1349036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53AF-9B55-49BC-A4F8-803275435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1162080" cy="104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419640" y="5445000"/>
            <a:ext cx="226692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11620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59280" y="5445000"/>
            <a:ext cx="307656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492360" y="5445000"/>
            <a:ext cx="2171880" cy="295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276720" y="3500280"/>
            <a:ext cx="116208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116208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1162080" cy="104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360" y="5445000"/>
            <a:ext cx="200052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116208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635280" y="5445000"/>
            <a:ext cx="184788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116208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59280" y="5445000"/>
            <a:ext cx="302868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116208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916360" y="5445000"/>
            <a:ext cx="318132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116208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67652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11620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64000" y="5445000"/>
            <a:ext cx="198108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116172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59280" y="5445000"/>
            <a:ext cx="301932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43280" y="5445000"/>
            <a:ext cx="3333600" cy="29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1161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09:16:38Z</dcterms:created>
  <dc:creator>Martyn Carroll</dc:creator>
  <dc:description/>
  <dc:language>en-US</dc:language>
  <cp:lastModifiedBy>Martyn Carroll</cp:lastModifiedBy>
  <dcterms:modified xsi:type="dcterms:W3CDTF">2004-07-27T11:34:15Z</dcterms:modified>
  <cp:revision>6</cp:revision>
  <dc:subject/>
  <dc:title>Slide 1</dc:title>
</cp:coreProperties>
</file>